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C99-A5DD-4AB1-9E5D-F8FB3AB6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A30-AA61-46F8-98A6-7FF2006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5E0-5E03-489C-8306-02FCD3F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7CD-0BC4-4819-B0D9-324F74D3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B23-5695-4F75-A717-6AA239A1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A80A-0930-4968-A463-93D2592A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0D9-5E25-4CB6-9AB5-3F1A274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DE5D-FE49-4DCB-B41E-0196A297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8A88-1DEE-4927-A7F9-B2C35FD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21A-D6EE-4287-896C-405270E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B190-3688-45D3-B7A4-517F70F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A13-A9E7-4718-AB78-232ADCC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8E6-6F9A-4891-936C-BEE25DF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40C-182F-48D4-A88B-8561A10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5FF-0D41-46CC-BDD9-FEEE2D0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9582-EF57-4524-92C8-D08B9653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554F-8A72-49BB-BC5B-B77CAC17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E07-5C56-4B7B-9019-E337C7AD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80E-BFCF-4745-A98C-81C635E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30C-5655-4259-8CDF-827BB52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DA9-9E48-4A77-9059-49C258C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9CD-1690-4D2C-93C6-FDF2A4C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71F-E7FE-4362-975A-70ED0CF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DAF-3BA4-4149-A411-CFE3CDF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127-E656-4937-873A-780299087AE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D1FB-B3B7-402B-9428-BEC7618F9B2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ORVOSTÖRTÉ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r. Barabás Kata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TE ÁOK Magatartástudományi Cso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0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GYIPTOMI ORVOSTUDOMÁN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8640" y="19890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hit és a bizalom pillérén nyugodott a gyógyítá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/ Hit a kozmikus titkokban, bizalom a tapasztalati gyógymódokban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betegség lényege, hogy az ember kiszakad a kozmikus harmóniából. A gyógyító visszahelyezi a harmóniáb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orvostudomány kezdete: a mágikus és a tapasztalati gyógyítás egymást kiegészítő vo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EBERS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PAPYRUS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TEKERCS I.E.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1550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50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első orvosi tapasztalatot rendszerbe foglaló m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/„Ebers” -tekercs belgyógyászat; „Smith” -tekercs sebészet/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gyógyítás szereplő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ORVOS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EBÉSZS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ÁGUSOK ÉS ÖRDÖGŰZŐ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341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BETEGSÉGEKET HÁROM CSOPORTBA SOROLTÁ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54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YNEK KEZELÉSÉT VÁLLAL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lyel felveszem a 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y kezelhetet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1621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37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SPECIALISTÁ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emorvosok, végbél pásztorok, nőgyógyászok, stb. – betegvizsgálat, diagnózis, teráp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Fejlett gyógyszerkészítés, rossz anatómiai ismeretek („A szív az intelligencia székhelye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MUMIFIKÁLÁS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STEREI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44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paleopathológiai vizsgálatok kitűnő tárgyai a múmiák, ezek alapján tudjuk diagnosztizálni a régi betegségeket.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2602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TUTANKHAMON</a:t>
            </a: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2040" y="260280"/>
            <a:ext cx="4059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1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2920" y="1978200"/>
            <a:ext cx="8605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46400" cy="410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3362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836640"/>
            <a:ext cx="79930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Csak a múlt művészetében és tudományában jártas ember képes azok jövőbeli haladását elősegíteni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TH. Bill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3492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SSZÍR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sszurbanipal (668-627) k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660 agyag tábla foglakozik orvosi emlékekkel: tünetek, gyógyszerek, betegség kime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sztrológia és gyógyítás karöltve já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Orvosok és mágusok együtt gyógyítot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ebészek korrekt sebellátást végezt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Jó gyógyszerészek vol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5400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BABILÓ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Először szabályozták a törvényben az orvosi munkát/ Hammurabi  törvényei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„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a egy orvos nagyobb műtétet hajt végre nemes emberen… és azzal a nemes halálát okozza le kell vágni a kezé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a valaki megbetegszik az az ő hibá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557360" cy="623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ÉBER MEDICI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z ókor tisztiorvosai a zsidó orvosok volta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Talmud, Ó testamentum Ó-szövetsége, Leviták köny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prevenció fontosságát felismerté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(cirkumcízió, kóser étkezés, tisztálkodási előírások, hulladékkezelé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4000" y="404280"/>
            <a:ext cx="39258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ŐSI KÍ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e.:400-ban szétvált az orvoslás és a má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CÉL: A HARMÓNIA HELYREÁLLÍ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Ö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VÍZ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IN (NEVES, SÖTÉT, NŐ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ŰZ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ANG (SZÁRAZ, FÉN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ÉRFI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É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83380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4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ŐSI KÍ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NEJ C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Pulzus diagnosztika, 21 pulzus félesé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kupunk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oxibu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azdag receptúra 2000 alapanyagból, 16 000 gyógyszer közül választhat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3863880" cy="590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08720" y="1844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NEJ C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3888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08000" y="404640"/>
            <a:ext cx="548496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6978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ORVOSLÁS TÖRTÉN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oknak az eseményeknek és eszméknek a története, amelyek kikövezték a gyógyítás hosszú, kacskaringós útjá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oknak az embereknek a története, akiknek az eszméi, felfedezései létrehozták az eseményeket, ezek többnyire tudósok és orvosok egy személyben, tehát ezeknek az embereknek, iskoláknak, sikereiknek és botlásaiknak történ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6108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077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ŐSI IND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YURVEDA = tudás, élet tudomány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Csakara szamhita – belgyógyász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usruta szamhita – sebész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i.e. 1000 – i. sz. 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allási elemekkel átszőtt könyv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120 marma-pontot különítettek 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Négy elem tana: szél, epe, nyál, vé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69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Z INDIAI SEBÉSZ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866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121 nyeles eszközt használtak – szikék, katéterek, szondá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Eljárásaik: sipoly égetés, sebvarrás, plasztikai sebész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ktatás: „SKILL-LAB” – élettelen tárgyakon gyakorolt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Indiai orvos: tiszta gondolkodású, finom metszésű ajkú, vékony nyelvű, egyenes orr, nagy, becsületes sz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880" y="836280"/>
            <a:ext cx="887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AZ ÓKORI GÖRÖG ORVOSLÁS, MINT AZ EURÓPAI ORVOSTUDOMÁNY BÖLCSŐ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424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SC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PIUS  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volt a gyógyítás istene, aki a halandók közül került az istenek közé. Gyermekei közül Hygieia és Panakeia a leghíresebb, a prevenció és a gyógyítás megtestesítői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gyógyítás szimbóluma a botra tekeredő kígyó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32416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422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YGIE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3051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90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8943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99"/>
                </a:solidFill>
                <a:latin typeface="Tahoma"/>
              </a:rPr>
              <a:t>A GÖRÖGSÉG ÉS AZ ORVOSTUDOMÁN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Megalkották az egészség és a betegség ellentétpárját, hittek a természet gyógyító erejében és az ellentétek harmonikus egyensúlyáb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űz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í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Meleg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Hid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iválasztódás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evered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221000"/>
            <a:ext cx="1297080" cy="216000"/>
          </a:xfrm>
          <a:prstGeom prst="leftRightArrow">
            <a:avLst>
              <a:gd name="adj1" fmla="val 50000"/>
              <a:gd name="adj2" fmla="val 11954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869000"/>
            <a:ext cx="1297080" cy="215640"/>
          </a:xfrm>
          <a:prstGeom prst="leftRightArrow">
            <a:avLst>
              <a:gd name="adj1" fmla="val 50000"/>
              <a:gd name="adj2" fmla="val 119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516640"/>
            <a:ext cx="1297080" cy="216000"/>
          </a:xfrm>
          <a:prstGeom prst="leftRightArrow">
            <a:avLst>
              <a:gd name="adj1" fmla="val 50000"/>
              <a:gd name="adj2" fmla="val 11954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617040"/>
            <a:ext cx="86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TERMÉSZETI TÖRVÉNYEK TANULMÁNYOZÁS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 feladata a természet rendjének helyrezökkenté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chn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Prognóz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iagnóz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5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UMORAL FIZIOLÓG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613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eleg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id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záraz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Ned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1557360"/>
            <a:ext cx="934920" cy="216000"/>
          </a:xfrm>
          <a:prstGeom prst="leftRightArrow">
            <a:avLst>
              <a:gd name="adj1" fmla="val 50000"/>
              <a:gd name="adj2" fmla="val 8616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133720"/>
            <a:ext cx="934920" cy="215640"/>
          </a:xfrm>
          <a:prstGeom prst="leftRightArrow">
            <a:avLst>
              <a:gd name="adj1" fmla="val 50000"/>
              <a:gd name="adj2" fmla="val 863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508640"/>
            <a:ext cx="3529080" cy="180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69696">
                  <a:alpha val="20000"/>
                </a:srgbClr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707640" y="3572280"/>
            <a:ext cx="3529080" cy="18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481c0"/>
              </a:gs>
              <a:gs pos="100000">
                <a:srgbClr val="d6e7f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835280" y="3572640"/>
            <a:ext cx="3529080" cy="18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f01"/>
              </a:gs>
              <a:gs pos="100000">
                <a:srgbClr val="fef3c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771280" y="2636640"/>
            <a:ext cx="3529080" cy="180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1acaa"/>
              </a:gs>
              <a:gs pos="100000">
                <a:srgbClr val="e55653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3860640"/>
            <a:ext cx="158400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16360" y="422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29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V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5015160" y="4207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NYÁ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551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FEKETE 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2427840" y="39168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SÁRGA 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GÖRÖG ORVOSOK</a:t>
            </a:r>
            <a:br>
              <a:rPr sz="4000"/>
            </a:br>
            <a:r>
              <a:rPr b="1" lang="hu-HU" sz="2900" spc="-1" strike="noStrike">
                <a:solidFill>
                  <a:srgbClr val="333399"/>
                </a:solidFill>
                <a:latin typeface="Tahoma"/>
              </a:rPr>
              <a:t>EPIDEMIOLÓGUSOK = VÁNDOR ORVOSOK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 tisztaság fontosságát hangsúlyoztá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Sebellátást végezt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Ismerték a szorítóköté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Hallgatózt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Vérlebocsátást használtá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z életmódnak tulajdonítottak fontos szerep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602320" y="201780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RÖVID ORVOSTÖRTÉ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e. 2000. – „Itt van ez a gyökér, edd meg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000. – „A gyökér szentségtelen, itt van, mondd el ezt az imá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850. – „Az imádkozás babonaság, idd meg ezt az orvosságo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940. – „Ez az orvosság kígyóméreg, itt van, nyeld le ezt a tablettá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985. – „Az orvosság hatástalan. Itt van, vedd be ezt az antibiotikumo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2000. – „Az antibiotikumok nem használnak többet. Itt ez a gyökér, edd meg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438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DIETETIKA = ÉLETMÓDSZABÁLYOZÁ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Életszokásokat az egyén igényeihez rendelté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ifferenciált étke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ialakított napir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stápol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sted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iselkedés szabály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TEMPLOMI GYÓGYÍT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741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templomi gyógyítás sikeres volt a pszichoszomatikus kórképek javításába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templomok mint éjszakai szanatóriumok működtek, a páciensek szép helyeken, szép környezetben, nyugodt, mágikus gyógyító alvások révén lettek jobban, abban a hiszemben, hogy Asculapios meglátogatta őke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810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IPPOCR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744560"/>
            <a:ext cx="46814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A különböző orvosi iskolák közül a leghíresebb az i.e. 5-4. században működő Kos-szigeti iskola volt, ahol nemcsak a betegség diagnózisát, hanem prognózisát is megtanították, és a beteggel való együttműködést is tanították.</a:t>
            </a: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Hippocrates </a:t>
            </a: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70 kötetes </a:t>
            </a: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Corpus Hippocraticum</a:t>
            </a: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 című művében foglalta össze a kor gyógyító ismeretei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254560" y="2349360"/>
            <a:ext cx="3889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6877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 HIPPOCRATESI ESK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63700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i etika alappillére a mai nap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esküt tevőnek kötelező volt a tiszta élet, a betegek iránti elkötelezettség, az oktatója iránti hála, a betegek szolgálata egy életen át. „TISZTA ÉS SZE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0720" y="259920"/>
            <a:ext cx="86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 RÓMAI BIRODALOM ORVO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görög iskola érvényesült a Római Birodalomban. Az alapokat itt is a Corpus Hippocraticum jelentet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rivát orvos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Családorvos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isztiorvosok”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40160" y="2246400"/>
            <a:ext cx="361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ÍRES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RENTIUS VARRO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, aki láthatatlan élőlényeknek tulajdonította a betegség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RNELIUS CELSUS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, aki a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De Medicina –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ban leírta a gyulladás tüneteit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rubor, tumor, cum calore et do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35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LENUS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(129-199 A. D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67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15 évszázadra meghatározta az orvostudomány irányát.  A híres kísérletével rámutatott a beidegződés szerepére, felfedezte a vér szövetellátó szerepé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A négy nedv tana, az érvágás és a dicséretes genny elve évszázadokon keresztül dogmaként szerepel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27720" y="1981080"/>
            <a:ext cx="36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3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ORVOSTUDOMÁNY A KÖZÉPKORB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alenus tana megmar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Lélek a legfontosabb, a testet elhanyagoltá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333399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DE: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a keresztényi szeretet jegyében a karitatív tevékenység virágzott -  FABIOLOA. 399-ben alapították az első kórház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SZENT LÁZÁR 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TEUTON LOVAG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SZENT JÁNOS LOVAG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383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RÉGI IDŐK TUDÁSÁNAK MEGŐRZÉ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rab orvoslás ha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Kolostorok a tudás őrző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494000" indent="-22860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Új orvosi szakkifejezés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494000" indent="-22860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Élettani elméletek körvonalazód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XII. században szétvált az egyház és a gyógyítá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VILÁGI ORVOSOKNAK VIZSGÁZNIUK KELL!!!! (ÁLLAMVIZSG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3399"/>
                </a:solidFill>
                <a:latin typeface="Tahoma"/>
              </a:rPr>
              <a:t>AZ ORVOSLÁS KEZDETEI</a:t>
            </a: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92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99"/>
                </a:solidFill>
                <a:latin typeface="Tahoma"/>
              </a:rPr>
              <a:t>ŐSKO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99"/>
                </a:solidFill>
                <a:latin typeface="Tahoma"/>
              </a:rPr>
              <a:t>ÓKO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424240" y="0"/>
            <a:ext cx="429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6920" y="-31680"/>
            <a:ext cx="777744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RAB ORVOSLÁ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arab orvoslás a galenusi tradíción nyugodott. De nem csak másolta, hanem gazdagította is az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Például a szemészet terén Rhases precíz leírásai révén jól sikerült műtéteket végezt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5720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42920" y="-38160"/>
            <a:ext cx="6912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9292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CORDO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Cordoba volt Európában az a különleges hely, ahol a X. században békésen együtt dolgozott az iszlám, a zsidó és a keresztény orvos, hogy a három kultúrát az orvostudomány javára kamatoztassa. Ebben az időben 70 nyilvános könyvtár működött it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0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Z ŐSKORI ORVOSLÁ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z őskorban élt elődeink ugyanazokban a betegségekben szenvedtek, mint a XXI. század emb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ALEOPATH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ÁLLATRÓL EMBERRE TERJEDŐ BETEGSÉGEK, FÉRGESSÉGEK, TETANUS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7087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7929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SEBÉSZI ELJÁRÁSOK - </a:t>
            </a:r>
            <a:br>
              <a:rPr sz="4000"/>
            </a:b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kezelés tüzes vas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ÍRES ARAB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RHASES, IBN AL GHAZZAR, ALI ABBAS AVICENNA, MAYMONI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446200"/>
            <a:ext cx="66978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SEBÉSZI MEGOLD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968640" y="3573360"/>
            <a:ext cx="5175360" cy="2913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4941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Nyelvdaganat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26370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erinccsigolya törés gyógy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ELSŐ ORVOSI EGYETEM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494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alernoban alapították az első, független orvosi egyetemet. A legenda szerint egy arab, egy zsidó, egy görög és egy római illetőségű orvos dolgozott együtt. Avicenna Avulkasis Medica Canon-ja volt az alapja a medicina tanításának, a Medica Enciclopedica volt a másik pillé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406872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URÓPAI EGYETEME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16000" y="895320"/>
            <a:ext cx="70563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X.-XII.SZÁZADI ELSŐ EGYETEME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8501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Az első egyetem: SALE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árizs, Bologna, Padua, Ferrara, Tübingen – 4 - 5 évig tartó tanulmá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Orvosi működés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szabályozása: 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Szegényeket ingyen kell kezel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Kezelési költségek meghatároz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ilos a gyógyszerészekkel való összejáts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4797360"/>
            <a:ext cx="6769080" cy="196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ó erőt és egészséget, ha akarsz elér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Kerüljed a bosszúságot, békében kell él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ó a zsíros levesektől, a sok bortól fél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DIAGNÓZIS, TERÁPIA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466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Complexió tana - nedvek keveredé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Karakterológ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Diagnózis felállítása: panasz meghallgatása -megfigyelte, pulzus és vizelet vizsgálatot végzett - 29 szempontból kellett megfigyelni a vizelet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Terápiák: római eredetűek voltak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Diéta, köpölyözés, érvág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424480" y="2151000"/>
            <a:ext cx="3251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01520" y="851040"/>
            <a:ext cx="8940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40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40000" y="838080"/>
            <a:ext cx="4464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93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NŐGYÓGYÁSZAT A KÖZÉPKORB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80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SEBÉSZEK,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46688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Különvált az orvosi és manuális beavatkozás - borbélyok végezték a kőmetszést, a foghúzást (mandragóra és ópium az első érzéstelenítő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Nagy Sebészet Könyv: 1363-ban jelenik meg először Galenus anatómiai ismere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519880" y="2043000"/>
            <a:ext cx="30607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JÁRVÁNY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37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Fekete halál - Isten büntetése (1347-1350) Európa lakóinak több mint egyharmada meghal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ok tehetetlenek voltak, de a karantén segíte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20160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ÉLETKILÁT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VÁNDORLÁSOK IDEJÉN AZ ÁTLAGÉLETKOR 30-35 ÉV VOL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fő halálokok: erőszak, háborúskodás, nehéz életmód, időjárási viszontagságok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LETELEPEDÉST KÖVETŐEN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tressztényezők, fertőző betegségek, gyermekbetegségek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GYÓGYÍTÓ TEVÉKENY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ÁGIKUS GONDOLKODÁS URALMA: a gonosz szellemek kiűzése volt a cél - sámánok, varázsl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TREPANÁCIÓ, MINT MINDENHOL FELLELHETŐ GYÓGYMÓD (75 %-OS TÚLÉL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6440" y="2017800"/>
            <a:ext cx="26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6:34:19Z</dcterms:created>
  <dc:creator>en</dc:creator>
  <dc:description/>
  <dc:language>en-US</dc:language>
  <cp:lastModifiedBy>Oktató</cp:lastModifiedBy>
  <dcterms:modified xsi:type="dcterms:W3CDTF">2008-09-16T19:06:12Z</dcterms:modified>
  <cp:revision>32</cp:revision>
  <dc:subject/>
  <dc:title>HISTORY OF MEDIC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0604013</vt:r8>
  </property>
  <property fmtid="{D5CDD505-2E9C-101B-9397-08002B2CF9AE}" pid="3" name="_AuthorEmail">
    <vt:lpwstr>bar@nepsy.szote.u-szeged.hu</vt:lpwstr>
  </property>
  <property fmtid="{D5CDD505-2E9C-101B-9397-08002B2CF9AE}" pid="4" name="_AuthorEmailDisplayName">
    <vt:lpwstr>Dr. Barabas Katalin</vt:lpwstr>
  </property>
  <property fmtid="{D5CDD505-2E9C-101B-9397-08002B2CF9AE}" pid="5" name="_EmailSubject">
    <vt:lpwstr/>
  </property>
  <property fmtid="{D5CDD505-2E9C-101B-9397-08002B2CF9AE}" pid="6" name="_PreviousAdHocReviewCycleID">
    <vt:r8>763367554</vt:r8>
  </property>
  <property fmtid="{D5CDD505-2E9C-101B-9397-08002B2CF9AE}" pid="7" name="_ReviewingToolsShownOnce">
    <vt:lpwstr/>
  </property>
</Properties>
</file>